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E28-9CF5-4EC3-A151-A5D6E387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965-056F-476C-B6E5-BBBCD7EF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95B-8B96-45D1-8FB8-B72FCC59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93A-0CEC-48AC-8583-AC0F61AB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F78-744B-4A73-B163-ADB34048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1AA-2C73-4225-AF97-E72DBAB4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C50-C941-4CB6-ACDF-4CF5AA91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0CD-EE98-4F04-9873-29483313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79B-399E-455E-95E0-40914253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418-9D28-4559-9568-0E7EDBA7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7FF-F95D-4D07-AB3C-796ECAC2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0AE-E613-4080-AF01-4D52473C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993B-2D06-4653-AF00-CF5BEC533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831" r="0" b="4831"/>
          <a:stretch/>
        </p:blipFill>
        <p:spPr>
          <a:xfrm>
            <a:off x="0" y="219240"/>
            <a:ext cx="9067680" cy="633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960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3080" y="636264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achme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00640" y="3441600"/>
            <a:ext cx="183960" cy="1289160"/>
          </a:xfrm>
          <a:custGeom>
            <a:avLst/>
            <a:gdLst/>
            <a:ahLst/>
            <a:rect l="l" t="t" r="r" b="b"/>
            <a:pathLst>
              <a:path w="116" h="812">
                <a:moveTo>
                  <a:pt x="0" y="0"/>
                </a:moveTo>
                <a:lnTo>
                  <a:pt x="116" y="8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4855800">
            <a:off x="4417560" y="3887640"/>
            <a:ext cx="610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3422520"/>
            <a:ext cx="362160" cy="2901960"/>
          </a:xfrm>
          <a:custGeom>
            <a:avLst/>
            <a:gdLst/>
            <a:ahLst/>
            <a:rect l="l" t="t" r="r" b="b"/>
            <a:pathLst>
              <a:path w="228" h="1828">
                <a:moveTo>
                  <a:pt x="228" y="0"/>
                </a:moveTo>
                <a:lnTo>
                  <a:pt x="0" y="18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769000">
            <a:off x="3970080" y="5477400"/>
            <a:ext cx="744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3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9760" y="2533680"/>
            <a:ext cx="1019160" cy="1390680"/>
          </a:xfrm>
          <a:custGeom>
            <a:avLst/>
            <a:gdLst/>
            <a:ahLst/>
            <a:rect l="l" t="t" r="r" b="b"/>
            <a:pathLst>
              <a:path w="642" h="876">
                <a:moveTo>
                  <a:pt x="238" y="710"/>
                </a:moveTo>
                <a:lnTo>
                  <a:pt x="128" y="868"/>
                </a:lnTo>
                <a:lnTo>
                  <a:pt x="110" y="876"/>
                </a:lnTo>
                <a:lnTo>
                  <a:pt x="94" y="870"/>
                </a:lnTo>
                <a:lnTo>
                  <a:pt x="8" y="808"/>
                </a:lnTo>
                <a:lnTo>
                  <a:pt x="0" y="796"/>
                </a:lnTo>
                <a:lnTo>
                  <a:pt x="2" y="784"/>
                </a:lnTo>
                <a:lnTo>
                  <a:pt x="514" y="16"/>
                </a:lnTo>
                <a:lnTo>
                  <a:pt x="530" y="2"/>
                </a:lnTo>
                <a:lnTo>
                  <a:pt x="548" y="0"/>
                </a:lnTo>
                <a:lnTo>
                  <a:pt x="572" y="12"/>
                </a:lnTo>
                <a:lnTo>
                  <a:pt x="634" y="48"/>
                </a:lnTo>
                <a:lnTo>
                  <a:pt x="642" y="64"/>
                </a:lnTo>
                <a:lnTo>
                  <a:pt x="634" y="90"/>
                </a:lnTo>
                <a:lnTo>
                  <a:pt x="518" y="278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27440" y="636480"/>
            <a:ext cx="20880" cy="1954440"/>
          </a:xfrm>
          <a:custGeom>
            <a:avLst/>
            <a:gdLst/>
            <a:ahLst/>
            <a:rect l="l" t="t" r="r" b="b"/>
            <a:pathLst>
              <a:path w="13" h="1231">
                <a:moveTo>
                  <a:pt x="13" y="1231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3040" y="838080"/>
            <a:ext cx="964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ute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tri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1066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23:33:54Z</dcterms:created>
  <dc:creator>Administrator</dc:creator>
  <dc:description/>
  <dc:language>en-US</dc:language>
  <cp:lastModifiedBy>Beed</cp:lastModifiedBy>
  <dcterms:modified xsi:type="dcterms:W3CDTF">2006-03-08T02:57:44Z</dcterms:modified>
  <cp:revision>6</cp:revision>
  <dc:subject/>
  <dc:title>Slide 1</dc:title>
</cp:coreProperties>
</file>